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0.gif" ContentType="image/gif"/>
  <Override PartName="/ppt/media/image63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1.png" ContentType="image/png"/>
  <Override PartName="/ppt/media/image29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24.png" ContentType="image/png"/>
  <Override PartName="/ppt/media/image61.png" ContentType="image/png"/>
  <Override PartName="/ppt/media/image60.png" ContentType="image/png"/>
  <Override PartName="/ppt/media/image2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B47-B877-4E37-BEA8-00B4550D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C41-5124-4D11-81E7-9A13CF6F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AC176-3491-4592-830C-F5365043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5A2BC-BAAC-494A-BC98-9E34D059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1FFD9-5149-4419-94E3-C17C6109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D3172-C27F-47A5-A854-91FD0A7A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BD671-BB72-443C-B7C3-FE3179E7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DC7A8-F788-4321-A473-04FAAD6F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52C8A-F771-4364-8C21-30F6181E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3CC42-AA18-4250-99A2-1DFDDA11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BD0FC-DCAC-4859-8D71-921846E7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82086-911B-4730-9BBE-56EDA45A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B1F-E6F8-4BC4-B86B-4D61FBF7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7A1D0-3CD2-48F7-9123-189B98E2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3F18A-E479-4436-AEE6-36AF1D3E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89730-0AE3-4A8A-B731-BBF5A2E5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DF396-A780-42BF-A227-1AD6C577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A469B-5AC8-412E-9361-DDBB2425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685A8-F39F-4EA1-B9CA-EEE48C39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39C29-C243-4A52-9476-C74CE897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C4DC4-C56B-47E7-B3C9-06EB4C85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05057-938D-4C57-9E86-37683B28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EC457-32C9-4744-A76A-592E5714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A34-2050-4E4D-9B31-375CE01A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B8DB7-7300-4A30-B012-5F56C89D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24DF0-0B82-4061-A224-AC0E6351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3A38A-2B88-44CC-977B-EB1F061A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1181F-351F-4728-B55F-9FA4D443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DB297-A13A-4F78-A8E4-BC859DDA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14451-06E9-4B85-830F-1EE3FB2A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A488D-0670-48E4-AAF2-3E7500DF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0968B-3969-4B65-931B-088A19FD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AA495-7E77-4BA1-8297-BB7F6B97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E2DDC-BB81-4582-B25A-19D8735B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A3EF-182F-4CEC-B4E1-F7FBF180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9DA1F-82E1-41AC-B5AC-C181E45E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ED99F-947B-421D-A745-EC6B9F0C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83286-D6C2-49B8-9C7E-30671C4D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42CF9-8D80-476A-AFBA-F2CC451E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5C5CD-D45F-4FCA-A56E-5A227182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1FEC4-BBD7-4E84-AA16-39F25496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64B64-5DFB-40C5-952C-E0469C2D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1A453-D484-4121-AB46-D05A00D6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83CEB-9762-4F53-AA4E-7D036D77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5132D-0307-404B-854E-2F7AAFF8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B118-687E-4BE5-B970-45E0CF0D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82478-F9CB-4D45-858E-B68087A8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29CAA-D37D-4858-B2DF-48803BA5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11300-53E1-423A-AB98-D9A8A4E1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11C66-3540-43A3-93BD-76BC1148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49427-D9D4-45F8-889B-38D4B615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45C4-7473-4414-9FC6-1A157734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6433-EC94-49C7-A7B5-69BB5E3C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B43D-557C-4FF3-A0CD-23551A1D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4B55-E60A-4E81-9415-BCC9AD68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1E70-0F96-4436-AA73-4780DBDF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882-AEB3-4141-A3CB-C84B6C20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48E5-A4AD-4B3F-8467-1C48BFB2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688C-F743-4735-9E1D-A1B21663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D79E-F590-41FD-8593-6AE5F55E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ABBE-F066-4C52-A748-9E812844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F8CD-0FEA-4EE4-A3E7-CDBA8D05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E561E-77E2-4AC0-A474-53136CFE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0ABD6-E9E2-4A63-A3F7-B291CDDF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A9370-C578-415E-978B-DD704557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11E01-0BC7-4707-BFF4-4F86D283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4F126-8E42-4D94-A7AA-A38486B8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DE7-AC49-480C-B653-8D858254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A12AE-4588-42A1-9B91-D96A66A6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F9180-5F7E-4ABE-944B-695DDDDA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1CEC8-C4ED-4955-B304-D8F48442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FEC21-6390-414E-B31A-71272BF5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249B-B22C-4D24-8EAA-E7DF6505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0E453-018C-4F89-9460-C51A6205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6932E-484A-4233-BD8D-0FD05181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BE0C3-4CC1-40C5-B6F2-DEA52BD2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857A1-6016-47F6-8F47-EF072CB7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A6108-3BAE-41D2-AAB0-54266112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E13-973F-4D02-B274-4E05492D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A4218-2CDC-41C2-9AC2-7AB17B73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F9231-7B45-4570-BABA-58667422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EE053-BC0D-470C-B4C1-2117931B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0EA21-6A83-4361-9D24-F019A6D1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3AA50-F74B-4D72-B2E9-EC483612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7E611-29D9-4F4A-BF2C-ADBFCF75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FDE5E-A5E0-45DE-B78D-15E108BC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6E7E4-F9F6-4197-904C-D5A3660E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26B96-959D-4D17-A629-BA15CF13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58F09-7D34-4073-9022-83964BD7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20B-8694-4230-9770-4F59213B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D0847-28CD-412E-8C61-56772824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BCCD3-D62C-4110-BEA3-62A8BA93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A9185-BD0D-4913-8083-9BF29111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9A16B-5915-48A5-88E8-807D525A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2C7DF-8013-4AAA-8D60-0B3904BD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6B4C4-C85E-46E9-8B8C-D182203B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4B93D-DFDC-4FD7-91C5-E382321C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E2E77-898B-4F3E-A5B5-68EE3FEA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87D8A-B99B-4A73-B3AE-AE30CC4B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E288F-0611-4B72-BDC0-2E230CAE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A60-0249-4C7A-BD93-D6989D23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CBB7F-F03A-4371-879A-A96B2758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18C57-B705-4DA1-AFEC-359ADE19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29674-91E6-473B-ABF9-DB538783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9D459-F431-49C4-8368-9F31EEE8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4C1AC-6CE2-4B6A-AE69-C2CD89D2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FD7BC-2C90-44BB-99DA-83912B33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B6A95-3970-4715-9848-48A8DA7B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387A5-C494-437F-BC5E-2A8668FC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B5D4D-51CE-462A-8D99-BDE3C4A9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E0A34-6B70-4270-BB82-3C483E13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399-6772-4196-8CA2-95EA8C7F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448CB-0C72-42CA-A001-1A9A8BF1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8551F-9538-44DA-9429-60898CCF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15BD0-27D0-48D3-9003-A31A8FF8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F2FE3-33F9-4DAB-9461-B15E0DCA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D660A-6B47-4A41-9C00-9559A77E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0D0CA-82B3-4BB8-9E61-159CB52F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56645-4069-422B-A7E6-9E60E8A5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BC5E0-BB7B-4C43-BF43-D56ADFFB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5FEBB-9811-4657-8CF7-926EA563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44DE8-58DA-4992-B7D5-F565833A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E50-902F-4F0F-A015-BC1C450C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37083-5637-41A4-B2FB-BB5AAD08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1928C-3F00-402D-8461-1A588011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8D0C8-7AE0-450E-969E-FF4D9027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2E37E-0EF1-41A0-BB3D-8AC81F9D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8301E-BDA7-43A2-9A01-2EFD1C9B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9A42F-38AE-4853-A036-A98FA775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231C5-F5CD-44E6-983E-A2C4BB6A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4829A-9A40-4842-A416-F49B4896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14321-48D3-4BCE-8662-44C8E498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4A7D3-E802-4599-8A53-03C62880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BC0A-0656-42F0-A5AE-5FB3E2D2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5966F-E663-486B-ACC8-4776943E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1D771-C17A-41FA-A02D-80CF6A6C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2D9EF-BC31-4175-92F8-9E677C58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DC1DC-CB77-4C5F-96E0-49D1B32C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4F6BC-F088-4AD2-8A9B-290067D5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2ED99-6FD5-4D34-A6E0-918B31EA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D3C94-3B2B-4FE0-AFF5-88333315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6B8EB-CC0D-43CD-AC6F-673CBEC1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1C4C6-6924-4BF5-8738-168B97F9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C79C7-65D0-45A9-8DF4-5B7DC019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0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4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35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36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37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38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39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40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41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42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43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44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45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46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47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48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49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50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51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52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53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54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55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D8DC-79D6-460D-BBC2-195F7FEC1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117F-0BCF-47C0-B98F-FA3E7E6BC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0A33-FC1C-4C41-A41A-9E39A9B98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36E8-9801-4863-8067-3548B40CD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5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5" name="Freeform 36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6" name="Freeform 37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7" name="Freeform 38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8" name="Freeform 39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9" name="Freeform 40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1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42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43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44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45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46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47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48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49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50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51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52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53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54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55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56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57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87" name="Group 58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88" name="Freeform 59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60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61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537F-D6A3-470D-95BD-F025CBA49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76C0-C0B3-4DAE-9E81-149FE7586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CE52-B7C7-4736-BD94-08439C166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9A2C-94D4-4CA2-A81D-FE337CAD1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AC2B-6489-4E71-8514-883F6EF04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D013-2149-4E71-A246-F65E18BA8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B43E-1940-44A9-B7FC-A659FF9B6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6BF1-1715-4DD6-8D66-63FFD621E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70.gif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2817-D064-42D3-9073-A30519DAC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457200" y="54943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r. Prof. D. Ilangova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80a"/>
                </a:solidFill>
                <a:latin typeface="Times New Roman"/>
              </a:rPr>
              <a:t>Prof &amp; Head, Dept of Commerce,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80a"/>
                </a:solidFill>
                <a:latin typeface="Times New Roman"/>
              </a:rPr>
              <a:t>Annamalai University, Annamalai Nagar,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80a"/>
                </a:solidFill>
                <a:latin typeface="Times New Roman"/>
              </a:rPr>
              <a:t>Chidamparam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4" name="Picture 12" descr=""/>
          <p:cNvPicPr/>
          <p:nvPr/>
        </p:nvPicPr>
        <p:blipFill>
          <a:blip r:embed="rId1"/>
          <a:stretch/>
        </p:blipFill>
        <p:spPr>
          <a:xfrm>
            <a:off x="3643200" y="2743200"/>
            <a:ext cx="1857600" cy="2457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45" name="Picture 7" descr=""/>
          <p:cNvPicPr/>
          <p:nvPr/>
        </p:nvPicPr>
        <p:blipFill>
          <a:blip r:embed="rId2"/>
          <a:stretch/>
        </p:blipFill>
        <p:spPr>
          <a:xfrm>
            <a:off x="533520" y="190440"/>
            <a:ext cx="7993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609480" y="1585800"/>
            <a:ext cx="79250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1752480" y="1584360"/>
            <a:ext cx="563904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3960720" cy="55198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" descr=""/>
          <p:cNvPicPr/>
          <p:nvPr/>
        </p:nvPicPr>
        <p:blipFill>
          <a:blip r:embed="rId2"/>
          <a:stretch/>
        </p:blipFill>
        <p:spPr>
          <a:xfrm>
            <a:off x="152280" y="5705640"/>
            <a:ext cx="3764160" cy="10760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4" descr=""/>
          <p:cNvPicPr/>
          <p:nvPr/>
        </p:nvPicPr>
        <p:blipFill>
          <a:blip r:embed="rId3"/>
          <a:stretch/>
        </p:blipFill>
        <p:spPr>
          <a:xfrm>
            <a:off x="4319640" y="162000"/>
            <a:ext cx="429084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1523880" y="314280"/>
            <a:ext cx="57913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2133720" y="76320"/>
            <a:ext cx="3886200" cy="20574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3" descr=""/>
          <p:cNvPicPr/>
          <p:nvPr/>
        </p:nvPicPr>
        <p:blipFill>
          <a:blip r:embed="rId2"/>
          <a:stretch/>
        </p:blipFill>
        <p:spPr>
          <a:xfrm>
            <a:off x="2228760" y="2057400"/>
            <a:ext cx="379116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"/>
          <p:cNvSpPr/>
          <p:nvPr/>
        </p:nvSpPr>
        <p:spPr>
          <a:xfrm>
            <a:off x="380880" y="381600"/>
            <a:ext cx="39625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06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அமைப்பின் கோட்பாடுகள்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-361800" y="1079280"/>
            <a:ext cx="6186600" cy="383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வேலைப் பகிர்வு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அதிகாரமும்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ொறுப்பும்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ஒழுங்குமுறை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ட்டளையொருமை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.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ஒரு முனை இயக்கம்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.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ொது நலனுக்காக தனி நலம் புறக்கணிக்கப்படல் வேண்டும்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.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ஊதியம்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.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ையப்படுத்தலின் தரம்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.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ஆணையுரிமை வரிசை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தரவரிசைத் தொடர்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.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முறைமை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.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நேர்மை நெறி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2.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பணியாளர்களின் காலவரையறையின் நிலைத்தன்மை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3.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தன் முயற்சித் திறன்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4.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ுழு பிணைப்புணர்ச்சி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குழு ஒற்றுமை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75" name="Picture 3" descr="C:\Users\Ilangovan\Desktop\chapter one\henri-fayol-300.png"/>
          <p:cNvPicPr/>
          <p:nvPr/>
        </p:nvPicPr>
        <p:blipFill>
          <a:blip r:embed="rId1"/>
          <a:stretch/>
        </p:blipFill>
        <p:spPr>
          <a:xfrm>
            <a:off x="5562720" y="990720"/>
            <a:ext cx="2743200" cy="3095640"/>
          </a:xfrm>
          <a:prstGeom prst="rect">
            <a:avLst/>
          </a:prstGeom>
          <a:ln w="19080">
            <a:solidFill>
              <a:srgbClr val="54547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" descr=""/>
          <p:cNvPicPr/>
          <p:nvPr/>
        </p:nvPicPr>
        <p:blipFill>
          <a:blip r:embed="rId1"/>
          <a:stretch/>
        </p:blipFill>
        <p:spPr>
          <a:xfrm>
            <a:off x="677880" y="304920"/>
            <a:ext cx="7788240" cy="7617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" descr=""/>
          <p:cNvPicPr/>
          <p:nvPr/>
        </p:nvPicPr>
        <p:blipFill>
          <a:blip r:embed="rId2"/>
          <a:stretch/>
        </p:blipFill>
        <p:spPr>
          <a:xfrm>
            <a:off x="1905120" y="1309680"/>
            <a:ext cx="53337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C041-3297-4DB1-99B8-5E96EAEE0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81" name="Picture 7" descr=""/>
          <p:cNvPicPr/>
          <p:nvPr/>
        </p:nvPicPr>
        <p:blipFill>
          <a:blip r:embed="rId1"/>
          <a:stretch/>
        </p:blipFill>
        <p:spPr>
          <a:xfrm>
            <a:off x="325440" y="2209680"/>
            <a:ext cx="8493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3BC8-7BF4-4F37-BC90-C3B937F40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3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1254240" y="2057400"/>
            <a:ext cx="6635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6B3D-B0A1-4240-A388-F5ED2E8C4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7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8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1407960" y="1884240"/>
            <a:ext cx="5394600" cy="41925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3" descr=""/>
          <p:cNvPicPr/>
          <p:nvPr/>
        </p:nvPicPr>
        <p:blipFill>
          <a:blip r:embed="rId2"/>
          <a:stretch/>
        </p:blipFill>
        <p:spPr>
          <a:xfrm>
            <a:off x="2932200" y="244440"/>
            <a:ext cx="22431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41F8-5EB7-4E61-AD0A-B05ADA847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89154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8" name="AutoShape 7"/>
          <p:cNvSpPr/>
          <p:nvPr/>
        </p:nvSpPr>
        <p:spPr>
          <a:xfrm>
            <a:off x="9067680" y="-30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9" name="AutoShape 9"/>
          <p:cNvSpPr/>
          <p:nvPr/>
        </p:nvSpPr>
        <p:spPr>
          <a:xfrm>
            <a:off x="9220320" y="1224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50" name="Picture 12" descr="thumb image"/>
          <p:cNvPicPr/>
          <p:nvPr/>
        </p:nvPicPr>
        <p:blipFill>
          <a:blip r:embed="rId1"/>
          <a:stretch/>
        </p:blipFill>
        <p:spPr>
          <a:xfrm>
            <a:off x="2619360" y="785880"/>
            <a:ext cx="3038400" cy="3252600"/>
          </a:xfrm>
          <a:prstGeom prst="rect">
            <a:avLst/>
          </a:prstGeom>
          <a:ln w="0">
            <a:noFill/>
          </a:ln>
        </p:spPr>
      </p:pic>
      <p:pic>
        <p:nvPicPr>
          <p:cNvPr id="551" name="Rectangle 4" descr=""/>
          <p:cNvPicPr/>
          <p:nvPr/>
        </p:nvPicPr>
        <p:blipFill>
          <a:blip r:embed="rId2"/>
          <a:stretch/>
        </p:blipFill>
        <p:spPr>
          <a:xfrm>
            <a:off x="1487520" y="3803760"/>
            <a:ext cx="58276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8B9A-DA3E-419C-A1CF-D89E54DEC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2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413000" y="1523880"/>
            <a:ext cx="6318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AE16-2EA4-4003-8BE2-A08C0FF21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rcRect l="8333" t="6965" r="8333" b="9449"/>
          <a:stretch/>
        </p:blipFill>
        <p:spPr>
          <a:xfrm>
            <a:off x="3276720" y="304920"/>
            <a:ext cx="1930320" cy="1158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99" name="Picture 3" descr=""/>
          <p:cNvPicPr/>
          <p:nvPr/>
        </p:nvPicPr>
        <p:blipFill>
          <a:blip r:embed="rId2"/>
          <a:stretch/>
        </p:blipFill>
        <p:spPr>
          <a:xfrm>
            <a:off x="1865160" y="1657440"/>
            <a:ext cx="4602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B1DC-D6A0-4D60-ADD9-82878360D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1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82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6430-9BEE-4FD7-94AE-F65F4DAE9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6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2674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03C8-12E7-4BB6-AEF8-FF367668E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0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2674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B721-D087-4FBB-98A6-6258C628C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3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4343400" cy="53337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468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5886-8182-4A60-9CB2-C9C7892EB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8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2057400" y="352440"/>
            <a:ext cx="4637160" cy="7142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6962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F6D8-1F17-45C2-AC2E-9BA73B127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2666880" y="201600"/>
            <a:ext cx="36576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A776-7898-4FC4-9C13-1F6F329FF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2886120" y="228600"/>
            <a:ext cx="3371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D78F-989B-4342-8C95-2B7505D38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1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39621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165240" y="304920"/>
            <a:ext cx="4483080" cy="16761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4341600" cy="45928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"/>
          <p:cNvPicPr/>
          <p:nvPr/>
        </p:nvPicPr>
        <p:blipFill>
          <a:blip r:embed="rId3"/>
          <a:stretch/>
        </p:blipFill>
        <p:spPr>
          <a:xfrm>
            <a:off x="4581360" y="378000"/>
            <a:ext cx="425772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7C8D-23F2-4EC7-92AC-DF069C503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5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1887480" y="442800"/>
            <a:ext cx="4589640" cy="24386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" descr=""/>
          <p:cNvPicPr/>
          <p:nvPr/>
        </p:nvPicPr>
        <p:blipFill>
          <a:blip r:embed="rId2"/>
          <a:stretch/>
        </p:blipFill>
        <p:spPr>
          <a:xfrm>
            <a:off x="1911240" y="2819520"/>
            <a:ext cx="4641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16AD-8376-4C0A-85B2-EBA6E8C62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1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343080" y="639720"/>
            <a:ext cx="3771720" cy="47703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3" descr=""/>
          <p:cNvPicPr/>
          <p:nvPr/>
        </p:nvPicPr>
        <p:blipFill>
          <a:blip r:embed="rId2"/>
          <a:stretch/>
        </p:blipFill>
        <p:spPr>
          <a:xfrm>
            <a:off x="4114800" y="609480"/>
            <a:ext cx="437364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5722-04BF-4E98-B469-B5E8BA3B8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5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6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014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8960-CE5B-43A7-A3CC-F0DBDEE8E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9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0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414360" y="2133720"/>
            <a:ext cx="8348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588D-462A-464C-922F-BF30F8907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4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1"/>
          <a:stretch/>
        </p:blipFill>
        <p:spPr>
          <a:xfrm>
            <a:off x="942840" y="990720"/>
            <a:ext cx="7258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36F7-0E75-432D-8E02-166AF7315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1"/>
          <a:stretch/>
        </p:blipFill>
        <p:spPr>
          <a:xfrm>
            <a:off x="2077920" y="762120"/>
            <a:ext cx="49881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BD4D-C285-4B29-AB2F-5B08808E7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2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424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D2D5-763E-411F-982A-1251F4F2C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5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6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30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F627-9468-4DD6-A819-61617884D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9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0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-638640" y="153000"/>
            <a:ext cx="72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நிதிச்சந்தைகளின்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ta-IN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வகைகள்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Types of Financial Markets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-709920" y="972720"/>
            <a:ext cx="944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அ</a:t>
            </a:r>
            <a:r>
              <a:rPr b="1" lang="en-US" sz="2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. </a:t>
            </a:r>
            <a:r>
              <a:rPr b="1" lang="ta-IN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நிதிகோருதல்</a:t>
            </a:r>
            <a:r>
              <a:rPr b="1" lang="en-US" sz="2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வகையின்</a:t>
            </a:r>
            <a:r>
              <a:rPr b="1" lang="en-US" sz="2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அடிப்படையில்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ஆ</a:t>
            </a:r>
            <a:r>
              <a:rPr b="1" lang="en-US" sz="2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. </a:t>
            </a:r>
            <a:r>
              <a:rPr b="1" lang="ta-IN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நிதிகோருத</a:t>
            </a:r>
            <a:r>
              <a:rPr b="1" lang="en-US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லின் </a:t>
            </a:r>
            <a:r>
              <a:rPr b="1" lang="ta-IN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முதிர்வு</a:t>
            </a:r>
            <a:r>
              <a:rPr b="1" lang="en-US" sz="2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அடிப்படையில்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இ</a:t>
            </a:r>
            <a:r>
              <a:rPr b="1" lang="en-US" sz="2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. </a:t>
            </a:r>
            <a:r>
              <a:rPr b="1" lang="ta-IN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நிதிகோருத</a:t>
            </a:r>
            <a:r>
              <a:rPr b="1" lang="en-US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லின் </a:t>
            </a:r>
            <a:r>
              <a:rPr b="1" lang="ta-IN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வெளியீட்டுக்கால</a:t>
            </a:r>
            <a:r>
              <a:rPr b="1" lang="en-US" sz="2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அடிப்படையில்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ஈ</a:t>
            </a:r>
            <a:r>
              <a:rPr b="1" lang="en-US" sz="2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. </a:t>
            </a:r>
            <a:r>
              <a:rPr b="1" lang="ta-IN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நிதிகோருத</a:t>
            </a:r>
            <a:r>
              <a:rPr b="1" lang="en-US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லின்</a:t>
            </a:r>
            <a:r>
              <a:rPr b="1" lang="ta-IN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வழங்கலின்காலஅடிப்படையில்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உ</a:t>
            </a:r>
            <a:r>
              <a:rPr b="1" lang="en-US" sz="2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. </a:t>
            </a:r>
            <a:r>
              <a:rPr b="1" lang="ta-IN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நிதிச்சந்தை</a:t>
            </a:r>
            <a:r>
              <a:rPr b="1" lang="en-US" sz="2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அமைப்பின்</a:t>
            </a:r>
            <a:r>
              <a:rPr b="1" lang="en-US" sz="2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24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அடிப்படையில்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0B18-BC07-4A55-9239-EA4DD9AC5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4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5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76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448160" cy="68112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3"/>
          <p:cNvSpPr/>
          <p:nvPr/>
        </p:nvSpPr>
        <p:spPr>
          <a:xfrm>
            <a:off x="258840" y="673920"/>
            <a:ext cx="79707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அ</a:t>
            </a:r>
            <a:r>
              <a:rPr b="0" lang="en-US" sz="20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. </a:t>
            </a:r>
            <a:r>
              <a:rPr b="1" lang="ta-IN" sz="20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சேமிப்பை</a:t>
            </a:r>
            <a:r>
              <a:rPr b="1" lang="en-US" sz="20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பெருக்குதல் </a:t>
            </a:r>
            <a:r>
              <a:rPr b="1" lang="ta-IN" sz="20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(Savings Mobilization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ஆ</a:t>
            </a:r>
            <a:r>
              <a:rPr b="0" lang="en-US" sz="20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. </a:t>
            </a:r>
            <a:r>
              <a:rPr b="1" lang="ta-IN" sz="20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முதலீடுகள் </a:t>
            </a:r>
            <a:r>
              <a:rPr b="1" lang="ta-IN" sz="20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(Investment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இ</a:t>
            </a:r>
            <a:r>
              <a:rPr b="0" lang="en-US" sz="20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. </a:t>
            </a:r>
            <a:r>
              <a:rPr b="1" lang="ta-IN" sz="20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தேசியவளர்ச்சி </a:t>
            </a:r>
            <a:r>
              <a:rPr b="1" lang="ta-IN" sz="20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(National Growth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ஈ</a:t>
            </a:r>
            <a:r>
              <a:rPr b="0" lang="en-US" sz="20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. </a:t>
            </a:r>
            <a:r>
              <a:rPr b="1" lang="ta-IN" sz="20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தொழில்முனைவோர்</a:t>
            </a:r>
            <a:r>
              <a:rPr b="1" lang="en-US" sz="20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வளர்ச்சி </a:t>
            </a:r>
            <a:r>
              <a:rPr b="1" lang="ta-IN" sz="20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(Enterpreneurship Growth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20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உ</a:t>
            </a:r>
            <a:r>
              <a:rPr b="0" lang="en-US" sz="20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. </a:t>
            </a:r>
            <a:r>
              <a:rPr b="1" lang="ta-IN" sz="20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தொழிற்துறை</a:t>
            </a:r>
            <a:r>
              <a:rPr b="1" lang="en-US" sz="20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மேம்பாடு</a:t>
            </a:r>
            <a:r>
              <a:rPr b="1" lang="ta-IN" sz="20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ta-IN" sz="20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(Industrial Development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76960" cy="15238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3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4352760" cy="50655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"/>
          <p:cNvPicPr/>
          <p:nvPr/>
        </p:nvPicPr>
        <p:blipFill>
          <a:blip r:embed="rId3"/>
          <a:stretch/>
        </p:blipFill>
        <p:spPr>
          <a:xfrm>
            <a:off x="4800600" y="380880"/>
            <a:ext cx="42670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566E-C596-4251-8F38-1D570A515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0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81" name="Picture 1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5994360" cy="91440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2"/>
          <p:cNvSpPr/>
          <p:nvPr/>
        </p:nvSpPr>
        <p:spPr>
          <a:xfrm>
            <a:off x="136440" y="1310400"/>
            <a:ext cx="610740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இடைநிலையர்பணிகள் </a:t>
            </a:r>
            <a:r>
              <a:rPr b="1" lang="ta-IN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Intermediary Funtions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545472"/>
                </a:solidFill>
                <a:latin typeface="Times New Roman"/>
              </a:rPr>
              <a:t>அ</a:t>
            </a:r>
            <a:r>
              <a:rPr b="1" lang="en-US" sz="1500" spc="-1" strike="noStrike">
                <a:solidFill>
                  <a:srgbClr val="545472"/>
                </a:solidFill>
                <a:latin typeface="Times New Roman"/>
              </a:rPr>
              <a:t>) </a:t>
            </a:r>
            <a:r>
              <a:rPr b="1" lang="ta-IN" sz="1500" spc="-1" strike="noStrike">
                <a:solidFill>
                  <a:srgbClr val="545472"/>
                </a:solidFill>
                <a:latin typeface="Times New Roman"/>
              </a:rPr>
              <a:t>வளஆதாரங்க</a:t>
            </a:r>
            <a:r>
              <a:rPr b="1" lang="en-US" sz="1500" spc="-1" strike="noStrike">
                <a:solidFill>
                  <a:srgbClr val="545472"/>
                </a:solidFill>
                <a:latin typeface="Times New Roman"/>
              </a:rPr>
              <a:t>ளின் பரிமாற்றம் </a:t>
            </a:r>
            <a:r>
              <a:rPr b="1" lang="en-US" sz="1500" spc="-1" strike="noStrike">
                <a:solidFill>
                  <a:srgbClr val="545472"/>
                </a:solidFill>
                <a:latin typeface="Times New Roman"/>
              </a:rPr>
              <a:t>(Transfer of Resources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545472"/>
                </a:solidFill>
                <a:latin typeface="Times New Roman"/>
              </a:rPr>
              <a:t>ஆ</a:t>
            </a:r>
            <a:r>
              <a:rPr b="1" lang="en-US" sz="1500" spc="-1" strike="noStrike">
                <a:solidFill>
                  <a:srgbClr val="545472"/>
                </a:solidFill>
                <a:latin typeface="Times New Roman"/>
              </a:rPr>
              <a:t>) </a:t>
            </a:r>
            <a:r>
              <a:rPr b="1" lang="ta-IN" sz="1500" spc="-1" strike="noStrike">
                <a:solidFill>
                  <a:srgbClr val="545472"/>
                </a:solidFill>
                <a:latin typeface="Times New Roman"/>
              </a:rPr>
              <a:t>வருவாயைஅதிகரித்தல்</a:t>
            </a:r>
            <a:r>
              <a:rPr b="1" lang="en-US" sz="15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545472"/>
                </a:solidFill>
                <a:latin typeface="Times New Roman"/>
              </a:rPr>
              <a:t>(Enhancing Income)  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545472"/>
                </a:solidFill>
                <a:latin typeface="Times New Roman"/>
              </a:rPr>
              <a:t>இ</a:t>
            </a:r>
            <a:r>
              <a:rPr b="1" lang="en-US" sz="1500" spc="-1" strike="noStrike">
                <a:solidFill>
                  <a:srgbClr val="545472"/>
                </a:solidFill>
                <a:latin typeface="Times New Roman"/>
              </a:rPr>
              <a:t>) </a:t>
            </a:r>
            <a:r>
              <a:rPr b="1" lang="en-US" sz="1500" spc="-1" strike="noStrike">
                <a:solidFill>
                  <a:srgbClr val="545472"/>
                </a:solidFill>
                <a:latin typeface="Times New Roman"/>
              </a:rPr>
              <a:t>ஆக்கபூர்வ</a:t>
            </a:r>
            <a:r>
              <a:rPr b="1" lang="ta-IN" sz="1500" spc="-1" strike="noStrike">
                <a:solidFill>
                  <a:srgbClr val="545472"/>
                </a:solidFill>
                <a:latin typeface="Times New Roman"/>
              </a:rPr>
              <a:t>பயன்பாடு </a:t>
            </a:r>
            <a:r>
              <a:rPr b="1" lang="ta-IN" sz="1500" spc="-1" strike="noStrike">
                <a:solidFill>
                  <a:srgbClr val="545472"/>
                </a:solidFill>
                <a:latin typeface="Times New Roman"/>
              </a:rPr>
              <a:t>(Production Usage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545472"/>
                </a:solidFill>
                <a:latin typeface="Times New Roman"/>
              </a:rPr>
              <a:t>ஈ</a:t>
            </a:r>
            <a:r>
              <a:rPr b="1" lang="en-US" sz="1500" spc="-1" strike="noStrike">
                <a:solidFill>
                  <a:srgbClr val="545472"/>
                </a:solidFill>
                <a:latin typeface="Times New Roman"/>
              </a:rPr>
              <a:t>)</a:t>
            </a:r>
            <a:r>
              <a:rPr b="1" lang="ta-IN" sz="1500" spc="-1" strike="noStrike">
                <a:solidFill>
                  <a:srgbClr val="545472"/>
                </a:solidFill>
                <a:latin typeface="Times New Roman"/>
              </a:rPr>
              <a:t>மூலதனஉருவாக்கம் </a:t>
            </a:r>
            <a:r>
              <a:rPr b="1" lang="ta-IN" sz="1500" spc="-1" strike="noStrike">
                <a:solidFill>
                  <a:srgbClr val="545472"/>
                </a:solidFill>
                <a:latin typeface="Times New Roman"/>
              </a:rPr>
              <a:t>(Capital Formation)</a:t>
            </a:r>
            <a:r>
              <a:rPr b="1" lang="en-US" sz="15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545472"/>
                </a:solidFill>
                <a:latin typeface="Times New Roman"/>
              </a:rPr>
              <a:t>உ</a:t>
            </a:r>
            <a:r>
              <a:rPr b="1" lang="en-US" sz="1500" spc="-1" strike="noStrike">
                <a:solidFill>
                  <a:srgbClr val="545472"/>
                </a:solidFill>
                <a:latin typeface="Times New Roman"/>
              </a:rPr>
              <a:t>) </a:t>
            </a:r>
            <a:r>
              <a:rPr b="1" lang="ta-IN" sz="1500" spc="-1" strike="noStrike">
                <a:solidFill>
                  <a:srgbClr val="545472"/>
                </a:solidFill>
                <a:latin typeface="Times New Roman"/>
              </a:rPr>
              <a:t>விலைநிர்ணயம் </a:t>
            </a:r>
            <a:r>
              <a:rPr b="1" lang="ta-IN" sz="1500" spc="-1" strike="noStrike">
                <a:solidFill>
                  <a:srgbClr val="545472"/>
                </a:solidFill>
                <a:latin typeface="Times New Roman"/>
              </a:rPr>
              <a:t>(Price Determination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545472"/>
                </a:solidFill>
                <a:latin typeface="Times New Roman"/>
              </a:rPr>
              <a:t>ஊ</a:t>
            </a:r>
            <a:r>
              <a:rPr b="1" lang="en-US" sz="1500" spc="-1" strike="noStrike">
                <a:solidFill>
                  <a:srgbClr val="545472"/>
                </a:solidFill>
                <a:latin typeface="Times New Roman"/>
              </a:rPr>
              <a:t>) </a:t>
            </a:r>
            <a:r>
              <a:rPr b="1" lang="ta-IN" sz="1500" spc="-1" strike="noStrike">
                <a:solidFill>
                  <a:srgbClr val="545472"/>
                </a:solidFill>
                <a:latin typeface="Times New Roman"/>
              </a:rPr>
              <a:t>விற்பனைவழிமுறைகள்</a:t>
            </a:r>
            <a:r>
              <a:rPr b="1" lang="en-US" sz="1500" spc="-1" strike="noStrike">
                <a:solidFill>
                  <a:srgbClr val="545472"/>
                </a:solidFill>
                <a:latin typeface="Times New Roman"/>
              </a:rPr>
              <a:t>(Sale Mechanism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a-IN" sz="1500" spc="-1" strike="noStrike">
                <a:solidFill>
                  <a:srgbClr val="545472"/>
                </a:solidFill>
                <a:latin typeface="Times New Roman"/>
              </a:rPr>
              <a:t>எ</a:t>
            </a:r>
            <a:r>
              <a:rPr b="1" lang="en-US" sz="1500" spc="-1" strike="noStrike">
                <a:solidFill>
                  <a:srgbClr val="545472"/>
                </a:solidFill>
                <a:latin typeface="Times New Roman"/>
              </a:rPr>
              <a:t>) </a:t>
            </a:r>
            <a:r>
              <a:rPr b="1" lang="ta-IN" sz="1500" spc="-1" strike="noStrike">
                <a:solidFill>
                  <a:srgbClr val="545472"/>
                </a:solidFill>
                <a:latin typeface="Times New Roman"/>
              </a:rPr>
              <a:t>தகவல்கள் </a:t>
            </a:r>
            <a:r>
              <a:rPr b="1" lang="ta-IN" sz="1500" spc="-1" strike="noStrike">
                <a:solidFill>
                  <a:srgbClr val="545472"/>
                </a:solidFill>
                <a:latin typeface="Times New Roman"/>
              </a:rPr>
              <a:t>(Information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F4E1-B4CF-4184-BD68-D841D4949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4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57913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122C-A421-49D2-B13C-B35DB86FC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8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9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90" name="Picture 1" descr=""/>
          <p:cNvPicPr/>
          <p:nvPr/>
        </p:nvPicPr>
        <p:blipFill>
          <a:blip r:embed="rId1"/>
          <a:stretch/>
        </p:blipFill>
        <p:spPr>
          <a:xfrm>
            <a:off x="914400" y="184320"/>
            <a:ext cx="73152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E5BE-DAAC-4D0F-80CB-B1B4AAB93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92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93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94" name="Picture 1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83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BFC0-B1E2-41AB-8633-C8ECC4A9B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96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97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98" name="Picture 1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4678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782C-7206-4DF9-8300-087A73E16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00" name="Picture 8" descr=""/>
          <p:cNvPicPr/>
          <p:nvPr/>
        </p:nvPicPr>
        <p:blipFill>
          <a:blip r:embed="rId1"/>
          <a:stretch/>
        </p:blipFill>
        <p:spPr>
          <a:xfrm>
            <a:off x="1600200" y="28440"/>
            <a:ext cx="5772240" cy="8859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9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3408120" cy="58197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0" descr=""/>
          <p:cNvPicPr/>
          <p:nvPr/>
        </p:nvPicPr>
        <p:blipFill>
          <a:blip r:embed="rId3"/>
          <a:stretch/>
        </p:blipFill>
        <p:spPr>
          <a:xfrm>
            <a:off x="5532480" y="803160"/>
            <a:ext cx="284940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402D-CD54-4CF3-8FD6-782D5637F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0" y="6464160"/>
            <a:ext cx="9144000" cy="387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05" name="Text Box 10"/>
          <p:cNvSpPr/>
          <p:nvPr/>
        </p:nvSpPr>
        <p:spPr>
          <a:xfrm>
            <a:off x="1219320" y="646416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.RAMESH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.G.Asst in Commerce, Trinity Academy, Namakkal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06" name="Picture 83" descr="AG00373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86120" y="990720"/>
            <a:ext cx="3286080" cy="3155760"/>
          </a:xfrm>
          <a:prstGeom prst="rect">
            <a:avLst/>
          </a:prstGeom>
          <a:ln w="0">
            <a:noFill/>
          </a:ln>
        </p:spPr>
      </p:pic>
      <p:pic>
        <p:nvPicPr>
          <p:cNvPr id="707" name="Rectangle 6" descr=""/>
          <p:cNvPicPr/>
          <p:nvPr/>
        </p:nvPicPr>
        <p:blipFill>
          <a:blip r:embed="rId3"/>
          <a:stretch/>
        </p:blipFill>
        <p:spPr>
          <a:xfrm>
            <a:off x="2170080" y="4548240"/>
            <a:ext cx="49737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886200" cy="57819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"/>
          <p:cNvPicPr/>
          <p:nvPr/>
        </p:nvPicPr>
        <p:blipFill>
          <a:blip r:embed="rId2"/>
          <a:stretch/>
        </p:blipFill>
        <p:spPr>
          <a:xfrm>
            <a:off x="4044960" y="457200"/>
            <a:ext cx="479412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325440" y="1219320"/>
            <a:ext cx="8493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258840" y="2438280"/>
            <a:ext cx="8626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4162320" cy="4779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" descr=""/>
          <p:cNvPicPr/>
          <p:nvPr/>
        </p:nvPicPr>
        <p:blipFill>
          <a:blip r:embed="rId2"/>
          <a:stretch/>
        </p:blipFill>
        <p:spPr>
          <a:xfrm>
            <a:off x="4724280" y="257040"/>
            <a:ext cx="372456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03:42:32Z</dcterms:created>
  <dc:creator>SYSTEM 6</dc:creator>
  <dc:description/>
  <dc:language>en-US</dc:language>
  <cp:lastModifiedBy>ramesh</cp:lastModifiedBy>
  <dcterms:modified xsi:type="dcterms:W3CDTF">2019-05-28T07:26:48Z</dcterms:modified>
  <cp:revision>795</cp:revision>
  <dc:subject/>
  <dc:title>CAREERS AFTER 10TH STANDARD</dc:title>
</cp:coreProperties>
</file>